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A35-1E20-44D7-B21D-B5A93553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100-65F3-474D-8406-8EBB2605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F75-CB49-4618-A81D-B57305F0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7E2-F639-46E9-A842-B825589C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80B7-52A5-4210-8ADF-AF687988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C3E9-A470-4724-8A5C-73202B9C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8033-6F7F-459A-A67F-E7061FE9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A2CE-318A-4987-A845-8E112C0C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746A-0679-4C60-A234-94816634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B456-3ADC-4E49-86B4-F6416442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3B08-1AC4-4E93-8529-9B46B184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CCD-1EB8-4DC2-AE06-521C5BE1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ACF9-A50C-440D-B442-7853E909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CCA9-834C-477A-A322-FC21EF57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9423-D44F-4D2B-9058-7EF803BC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9A2E-20D7-4194-8762-A9A5E116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3D5B-1A41-4C70-BCF4-8113FD2C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FD6B-66B9-4880-9A49-A47B9C1C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B0EB-BF9E-4471-9627-949070D0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8065-1A78-4292-A276-E121FADA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29F2-8CAC-438C-83ED-D4507280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D042-9F35-4E19-846B-BB369554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9E9-BB32-460C-BC2F-06559B83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AD1A-8C82-4702-9AFF-EEC5765F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3090E-2D8E-41B3-9449-DEFE39B5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6082-320B-4A89-923E-EC99AEE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10EF-0C0B-4FE5-BAEF-03D5682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A2AC-E4C0-4168-9213-3CB3369D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64B1-126C-4D5D-B65C-4854FCEE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3897-6536-4163-86AD-09D024A3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C5D5-75EA-4595-98FC-9F866E42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7AD5B-CBE7-48A4-80C7-0C312F27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9F03F-3E2B-4D9D-8D23-7BE43693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986-CB09-4585-825A-A9A08B5A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83F6F-B581-4FCD-B212-D58A24E8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3843-B81C-41D1-83A6-3BA69271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ACBC-B077-4BF0-9E8C-09ABD54F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6B5FE-6EC4-41E9-BB8F-A4A0408F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B567-1065-481C-B541-7F581288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B182-6908-42C2-872F-BC4EAB85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B36E5-175F-4968-AEF2-5F8FBF10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49FD5-6AA7-4150-8559-B629EAA2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4779-6179-49DF-B493-D2A63E7F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48E-7D54-4453-B0B4-62F04333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45A-8517-4BF6-B7B2-7535F88A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FF2-E0B1-4DA7-AAC2-30E4C0FE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220-3918-4DC7-801D-B148AD34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A6D-B992-4BBE-A79B-7952FC4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A216-C236-4FF0-9817-6206161F1E97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459B-B52B-4128-97EE-FD17960FD5BF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BEF4-3B44-4B85-B26D-7D5B13BA7405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0B2B-8303-4D49-AD9F-9DEBD10A96AD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C:\Documents and Settings\Educator\Desktop\DSC07784.JPG"/>
          <p:cNvPicPr/>
          <p:nvPr/>
        </p:nvPicPr>
        <p:blipFill>
          <a:blip r:embed="rId1"/>
          <a:stretch/>
        </p:blipFill>
        <p:spPr>
          <a:xfrm>
            <a:off x="1785960" y="2786040"/>
            <a:ext cx="5689440" cy="378468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2" descr="Flower"/>
          <p:cNvPicPr/>
          <p:nvPr/>
        </p:nvPicPr>
        <p:blipFill>
          <a:blip r:embed="rId3"/>
          <a:stretch/>
        </p:blipFill>
        <p:spPr>
          <a:xfrm>
            <a:off x="214200" y="142920"/>
            <a:ext cx="882720" cy="838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1285920" y="14292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elebrating Achievement Celebrating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ctively involved life long learners who are innovative, confident, and resi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rcRect l="16668" t="10791" r="14105" b="0"/>
          <a:stretch/>
        </p:blipFill>
        <p:spPr>
          <a:xfrm>
            <a:off x="2428920" y="642960"/>
            <a:ext cx="3857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0"/>
          <p:cNvSpPr/>
          <p:nvPr/>
        </p:nvSpPr>
        <p:spPr>
          <a:xfrm>
            <a:off x="357120" y="928800"/>
            <a:ext cx="8143920" cy="10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0" y="2714760"/>
            <a:ext cx="210492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oremost Teaching Approach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Kath Murdoch Inquiry process integrating multiple intelligenc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hinking (K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haring LIs &amp; co-developing success criteria with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caffolding learning from what the student can do or knows to just beyond (ZP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Modelling learning in multiple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Utilising thinking strategies &amp;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s-based, personalised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214720" y="3071880"/>
            <a:ext cx="180972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uture Focus T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ab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ustain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Exploring the long-term impact of social, cultural, scientific, technological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economic, or political practices on society and the environ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NZ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448400" y="2071800"/>
            <a:ext cx="169560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Key Competenc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Managing Self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Goal setting &amp; monitoring; reflecting; self/peer assessment; independent working; time-management; organisational skills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Participating &amp; Contributing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Group working roles &amp; skills; identity awareness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local/national/global; connecting &amp; sharing with others; netiquette; self-advocacy; social consci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786280" y="2714760"/>
            <a:ext cx="157176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Val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xcel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Aiming 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Persev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Being resil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Facing challen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Respectfu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Empathet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Toler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Hon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Relating to Others (K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067280" y="3095640"/>
            <a:ext cx="159048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grated Curricul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about and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ocial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 Reo &amp; Tikan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038400" y="5657760"/>
            <a:ext cx="381960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trategy &amp; Skill Develop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iteracy; Mathematics; ICT; Info-literacy; Self-Regulated Learning; PE &amp; Sport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Using symbols, language &amp; texts (KC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14680" y="2071800"/>
            <a:ext cx="5057640" cy="55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9 Building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Flower"/>
          <p:cNvPicPr/>
          <p:nvPr/>
        </p:nvPicPr>
        <p:blipFill>
          <a:blip r:embed="rId1"/>
          <a:stretch/>
        </p:blipFill>
        <p:spPr>
          <a:xfrm>
            <a:off x="285840" y="142920"/>
            <a:ext cx="882720" cy="8380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"/>
          <p:cNvSpPr/>
          <p:nvPr/>
        </p:nvSpPr>
        <p:spPr>
          <a:xfrm>
            <a:off x="1357200" y="1000080"/>
            <a:ext cx="635796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Celebrating Achievement Celebrating Divers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Actively involved life long learners who are innovative, confident, and resili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Rectangle 12" descr=""/>
          <p:cNvPicPr/>
          <p:nvPr/>
        </p:nvPicPr>
        <p:blipFill>
          <a:blip r:embed="rId2"/>
          <a:stretch/>
        </p:blipFill>
        <p:spPr>
          <a:xfrm>
            <a:off x="781200" y="-79200"/>
            <a:ext cx="80816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3071880" y="1428840"/>
            <a:ext cx="2341440" cy="15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riki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rincipal  &amp; Teacher Apprai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ilot Projec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Inquiring about teaching &amp; learning through Quality Learning Cir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2992320" y="3254400"/>
            <a:ext cx="245916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Building capacity 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2000160" y="4429080"/>
            <a:ext cx="962280" cy="8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usic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pecialist Tea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071880" y="4572000"/>
            <a:ext cx="1104840" cy="8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-wi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4214880" y="4357800"/>
            <a:ext cx="135396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grating Web 2.0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643720" y="4143240"/>
            <a:ext cx="97452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nquiry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7215120" y="2928960"/>
            <a:ext cx="1413000" cy="9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-w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pelling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85840" y="3357720"/>
            <a:ext cx="10224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elf-Regulated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13"/>
          <p:cNvCxnSpPr/>
          <p:nvPr/>
        </p:nvCxnSpPr>
        <p:spPr>
          <a:xfrm flipH="1">
            <a:off x="1928520" y="3609000"/>
            <a:ext cx="106416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2"/>
          <p:cNvCxnSpPr/>
          <p:nvPr/>
        </p:nvCxnSpPr>
        <p:spPr>
          <a:xfrm flipH="1">
            <a:off x="2571480" y="3610080"/>
            <a:ext cx="9784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AutoShape 11"/>
          <p:cNvCxnSpPr/>
          <p:nvPr/>
        </p:nvCxnSpPr>
        <p:spPr>
          <a:xfrm flipH="1">
            <a:off x="3499560" y="3610080"/>
            <a:ext cx="4676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AutoShape 10"/>
          <p:cNvCxnSpPr/>
          <p:nvPr/>
        </p:nvCxnSpPr>
        <p:spPr>
          <a:xfrm>
            <a:off x="4273920" y="3610080"/>
            <a:ext cx="29772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9"/>
          <p:cNvCxnSpPr/>
          <p:nvPr/>
        </p:nvCxnSpPr>
        <p:spPr>
          <a:xfrm>
            <a:off x="4832280" y="3609720"/>
            <a:ext cx="88344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8"/>
          <p:cNvCxnSpPr>
            <a:stCxn id="214" idx="3"/>
          </p:cNvCxnSpPr>
          <p:nvPr/>
        </p:nvCxnSpPr>
        <p:spPr>
          <a:xfrm flipV="1">
            <a:off x="5451120" y="3285360"/>
            <a:ext cx="1670760" cy="1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7"/>
          <p:cNvCxnSpPr/>
          <p:nvPr/>
        </p:nvCxnSpPr>
        <p:spPr>
          <a:xfrm flipH="1">
            <a:off x="4214520" y="300024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Text Box 6"/>
          <p:cNvSpPr/>
          <p:nvPr/>
        </p:nvSpPr>
        <p:spPr>
          <a:xfrm>
            <a:off x="6715080" y="4000680"/>
            <a:ext cx="855720" cy="8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e Reo &amp; Tikan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AutoShape 5"/>
          <p:cNvCxnSpPr/>
          <p:nvPr/>
        </p:nvCxnSpPr>
        <p:spPr>
          <a:xfrm>
            <a:off x="5343480" y="3609720"/>
            <a:ext cx="130104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Text Box 4"/>
          <p:cNvSpPr/>
          <p:nvPr/>
        </p:nvSpPr>
        <p:spPr>
          <a:xfrm>
            <a:off x="714240" y="4214880"/>
            <a:ext cx="122256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2643120" y="857160"/>
            <a:ext cx="33717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Building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1"/>
          <p:cNvCxnSpPr/>
          <p:nvPr/>
        </p:nvCxnSpPr>
        <p:spPr>
          <a:xfrm>
            <a:off x="4214520" y="1213920"/>
            <a:ext cx="1080" cy="21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8"/>
          <p:cNvCxnSpPr>
            <a:stCxn id="214" idx="1"/>
          </p:cNvCxnSpPr>
          <p:nvPr/>
        </p:nvCxnSpPr>
        <p:spPr>
          <a:xfrm flipH="1">
            <a:off x="1499400" y="3425760"/>
            <a:ext cx="149292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4" name="Rectangle 44" descr=""/>
          <p:cNvPicPr/>
          <p:nvPr/>
        </p:nvPicPr>
        <p:blipFill>
          <a:blip r:embed="rId1"/>
          <a:stretch/>
        </p:blipFill>
        <p:spPr>
          <a:xfrm>
            <a:off x="566640" y="274680"/>
            <a:ext cx="8083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44"/>
          <p:cNvGrpSpPr/>
          <p:nvPr/>
        </p:nvGrpSpPr>
        <p:grpSpPr>
          <a:xfrm>
            <a:off x="714240" y="790560"/>
            <a:ext cx="6805800" cy="4788000"/>
            <a:chOff x="714240" y="790560"/>
            <a:chExt cx="6805800" cy="4788000"/>
          </a:xfrm>
        </p:grpSpPr>
        <p:sp>
          <p:nvSpPr>
            <p:cNvPr id="236" name="Text Box 46"/>
            <p:cNvSpPr/>
            <p:nvPr/>
          </p:nvSpPr>
          <p:spPr>
            <a:xfrm>
              <a:off x="785520" y="1500480"/>
              <a:ext cx="23400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400" spc="-1" strike="noStrike">
                  <a:solidFill>
                    <a:srgbClr val="000000"/>
                  </a:solidFill>
                  <a:latin typeface="Calibri"/>
                </a:rPr>
                <a:t>Teacher 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7"/>
            <p:cNvSpPr/>
            <p:nvPr/>
          </p:nvSpPr>
          <p:spPr>
            <a:xfrm>
              <a:off x="714240" y="178632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Kath Murdoch and the Inquiry Learning Proces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Strategies &amp; Tool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8"/>
            <p:cNvSpPr/>
            <p:nvPr/>
          </p:nvSpPr>
          <p:spPr>
            <a:xfrm>
              <a:off x="5072040" y="1500480"/>
              <a:ext cx="23400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400" spc="-1" strike="noStrike">
                  <a:solidFill>
                    <a:srgbClr val="000000"/>
                  </a:solidFill>
                  <a:latin typeface="Calibri"/>
                </a:rPr>
                <a:t>Student 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49"/>
            <p:cNvSpPr/>
            <p:nvPr/>
          </p:nvSpPr>
          <p:spPr>
            <a:xfrm>
              <a:off x="5072040" y="1786320"/>
              <a:ext cx="2340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Using the Inquiry Learning Process &amp; strategies to access deep learnin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0"/>
            <p:cNvSpPr/>
            <p:nvPr/>
          </p:nvSpPr>
          <p:spPr>
            <a:xfrm>
              <a:off x="714240" y="265032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Kate Lloyd &amp; Joy Allcock acquiring written language, expect knowledge &amp; skill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5072040" y="265032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Generalising gains in spelling skills across to their written work (SAT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52"/>
            <p:cNvSpPr/>
            <p:nvPr/>
          </p:nvSpPr>
          <p:spPr>
            <a:xfrm>
              <a:off x="714240" y="362232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Utilising Web 2.0 tools, skills &amp; strateg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53"/>
            <p:cNvSpPr/>
            <p:nvPr/>
          </p:nvSpPr>
          <p:spPr>
            <a:xfrm>
              <a:off x="5072040" y="3429720"/>
              <a:ext cx="2340000" cy="93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Using ICT tools to enhance learning &amp; produce a learning story to share with parents/caregiver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54"/>
            <p:cNvSpPr/>
            <p:nvPr/>
          </p:nvSpPr>
          <p:spPr>
            <a:xfrm>
              <a:off x="714240" y="421560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Utilising SRL strategies &amp; to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5"/>
            <p:cNvSpPr/>
            <p:nvPr/>
          </p:nvSpPr>
          <p:spPr>
            <a:xfrm>
              <a:off x="5143680" y="435852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Developing as self managing lear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6"/>
            <p:cNvSpPr/>
            <p:nvPr/>
          </p:nvSpPr>
          <p:spPr>
            <a:xfrm>
              <a:off x="3143160" y="207216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7"/>
            <p:cNvSpPr/>
            <p:nvPr/>
          </p:nvSpPr>
          <p:spPr>
            <a:xfrm>
              <a:off x="3143160" y="307224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8"/>
            <p:cNvSpPr/>
            <p:nvPr/>
          </p:nvSpPr>
          <p:spPr>
            <a:xfrm>
              <a:off x="3143160" y="392976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59"/>
            <p:cNvSpPr/>
            <p:nvPr/>
          </p:nvSpPr>
          <p:spPr>
            <a:xfrm>
              <a:off x="3143160" y="457272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0"/>
            <p:cNvSpPr/>
            <p:nvPr/>
          </p:nvSpPr>
          <p:spPr>
            <a:xfrm>
              <a:off x="2190240" y="790560"/>
              <a:ext cx="3456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Calibri"/>
                </a:rPr>
                <a:t>Building the Fu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61"/>
            <p:cNvSpPr/>
            <p:nvPr/>
          </p:nvSpPr>
          <p:spPr>
            <a:xfrm flipH="1">
              <a:off x="2571480" y="1150560"/>
              <a:ext cx="410400" cy="27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2"/>
            <p:cNvSpPr/>
            <p:nvPr/>
          </p:nvSpPr>
          <p:spPr>
            <a:xfrm>
              <a:off x="4782240" y="1150560"/>
              <a:ext cx="361440" cy="27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3"/>
            <p:cNvSpPr/>
            <p:nvPr/>
          </p:nvSpPr>
          <p:spPr>
            <a:xfrm>
              <a:off x="714240" y="4858560"/>
              <a:ext cx="223200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Te Reo &amp; Tikanga knowledge &amp; skill buil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64"/>
            <p:cNvSpPr/>
            <p:nvPr/>
          </p:nvSpPr>
          <p:spPr>
            <a:xfrm>
              <a:off x="5072040" y="4930200"/>
              <a:ext cx="2448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Developing fluency in Te Reo &amp; knowledge ofTikan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5"/>
            <p:cNvSpPr/>
            <p:nvPr/>
          </p:nvSpPr>
          <p:spPr>
            <a:xfrm>
              <a:off x="3143160" y="528732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Rectangle 68" descr=""/>
          <p:cNvPicPr/>
          <p:nvPr/>
        </p:nvPicPr>
        <p:blipFill>
          <a:blip r:embed="rId1"/>
          <a:stretch/>
        </p:blipFill>
        <p:spPr>
          <a:xfrm>
            <a:off x="1378080" y="281160"/>
            <a:ext cx="58402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571680" y="1308960"/>
            <a:ext cx="91440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ESOL (2 teachers &amp; 2+ teacher a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Recovery/Read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MP (Junior School/small grou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yslexia Cli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eacher Aide Support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individual/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pecialist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Maths Olympiad and Specialist Science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Outside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atering for diverse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grated inquiry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Multiple Intellig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ull-out programmes (creative writing, Robotics, Music, Langu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523800" y="487440"/>
            <a:ext cx="6443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22160" y="2214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PMP information afternoon 11       Februar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April 30</a:t>
            </a:r>
            <a:r>
              <a:rPr b="0" lang="en-NZ" sz="28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 Mark Treadwell (PM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Date to be confirmed Term 1– Joy Allcock (PM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End of Inquiry Journey WOW! Open Lunch Hou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Information evenings (once a term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Rectangle 4" descr=""/>
          <p:cNvPicPr/>
          <p:nvPr/>
        </p:nvPicPr>
        <p:blipFill>
          <a:blip r:embed="rId1"/>
          <a:stretch/>
        </p:blipFill>
        <p:spPr>
          <a:xfrm>
            <a:off x="347760" y="682560"/>
            <a:ext cx="8199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Documents and Settings\Educator\Desktop\tabloids 011.jpg"/>
          <p:cNvPicPr/>
          <p:nvPr/>
        </p:nvPicPr>
        <p:blipFill>
          <a:blip r:embed="rId1"/>
          <a:stretch/>
        </p:blipFill>
        <p:spPr>
          <a:xfrm>
            <a:off x="428760" y="1071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Documents and Settings\Educator\Desktop\DSC07790.JPG"/>
          <p:cNvPicPr/>
          <p:nvPr/>
        </p:nvPicPr>
        <p:blipFill>
          <a:blip r:embed="rId2"/>
          <a:stretch/>
        </p:blipFill>
        <p:spPr>
          <a:xfrm>
            <a:off x="3571920" y="2857680"/>
            <a:ext cx="501948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1:21:43Z</dcterms:created>
  <dc:creator>Ministry of Education</dc:creator>
  <dc:description/>
  <dc:language>en-US</dc:language>
  <cp:lastModifiedBy>Ministry of Education</cp:lastModifiedBy>
  <dcterms:modified xsi:type="dcterms:W3CDTF">2009-02-18T01:38:04Z</dcterms:modified>
  <cp:revision>35</cp:revision>
  <dc:subject/>
  <dc:title>Ilam School  Curriculum Map 2009</dc:title>
</cp:coreProperties>
</file>